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5A7B8-B3EA-4C3B-BF51-3061BF230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A1BA9-CE0C-428B-B693-7265DC10212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817B7-E2C0-47A4-AB80-1891D4A0C3D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5324A-5B57-4A23-BD5F-36F59C4BC6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E7431-71D8-4B1E-89CC-CE00AF9233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5B9C1-72BF-480A-934E-9490178B7D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CD5EC-8162-41B7-B311-011810A5C3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B9233-7E72-4C38-A391-61147D3703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C83F9-0B89-46F1-B594-CDB29C2A5A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7A6A8-39A6-4A1D-B480-C3704241ED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C7F0F-D8D9-432B-BE39-B449B5BE7A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0EC12-078F-4C14-A331-03F6935A1D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D1F90-A493-4DA0-A116-14FB8F540D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D7410-96FE-4B6B-8420-772696A95E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BAF6A-B9E1-4385-A134-4F766D1DCE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24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201600" indent="-200520">
              <a:spcBef>
                <a:spcPts val="24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468720" indent="-265680">
              <a:spcBef>
                <a:spcPts val="24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594720" indent="-124560">
              <a:spcBef>
                <a:spcPts val="24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931680" indent="-335520">
              <a:spcBef>
                <a:spcPts val="24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931680" indent="-335520">
              <a:spcBef>
                <a:spcPts val="24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931680" indent="-335520">
              <a:spcBef>
                <a:spcPts val="24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E5232-2442-4672-A57A-57B1243FE867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Picture 9" descr="intelEDU_wht_lrg [Converted]"/>
          <p:cNvPicPr/>
          <p:nvPr/>
        </p:nvPicPr>
        <p:blipFill>
          <a:blip r:embed="rId2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  <p:sp>
        <p:nvSpPr>
          <p:cNvPr id="5" name="Text Box 12"/>
          <p:cNvSpPr/>
          <p:nvPr/>
        </p:nvSpPr>
        <p:spPr>
          <a:xfrm>
            <a:off x="939960" y="637236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intelEDU_wht_lrg [Converted]"/>
          <p:cNvPicPr/>
          <p:nvPr/>
        </p:nvPicPr>
        <p:blipFill>
          <a:blip r:embed="rId2"/>
          <a:stretch/>
        </p:blipFill>
        <p:spPr>
          <a:xfrm>
            <a:off x="6478560" y="284040"/>
            <a:ext cx="2179800" cy="1089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8"/>
          <p:cNvSpPr/>
          <p:nvPr/>
        </p:nvSpPr>
        <p:spPr>
          <a:xfrm>
            <a:off x="457200" y="653904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24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201600" indent="-200520">
              <a:spcBef>
                <a:spcPts val="24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468720" indent="-265680">
              <a:spcBef>
                <a:spcPts val="24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594720" indent="-124560">
              <a:spcBef>
                <a:spcPts val="24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931680" indent="-335520">
              <a:spcBef>
                <a:spcPts val="24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931680" indent="-335520">
              <a:spcBef>
                <a:spcPts val="24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931680" indent="-335520">
              <a:spcBef>
                <a:spcPts val="24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utsystem.edu/ogc/intellectualproperty/ccmcguid.htm" TargetMode="External"/><Relationship Id="rId2" Type="http://schemas.openxmlformats.org/officeDocument/2006/relationships/hyperlink" Target="http://www.utsystem.edu/OGC/IntellectualProperty/copypol2.htm" TargetMode="External"/><Relationship Id="rId3" Type="http://schemas.openxmlformats.org/officeDocument/2006/relationships/hyperlink" Target="http://www.copyright.gov/circs/circ1.html" TargetMode="External"/><Relationship Id="rId4" Type="http://schemas.openxmlformats.org/officeDocument/2006/relationships/hyperlink" Target="http://www.benedict.com/" TargetMode="External"/><Relationship Id="rId5" Type="http://schemas.openxmlformats.org/officeDocument/2006/relationships/hyperlink" Target="http://www.utsystem.edu/OGC/IntellectualProperty/faculty.htm" TargetMode="External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templetons.com/brad/copymyths.html" TargetMode="External"/><Relationship Id="rId2" Type="http://schemas.openxmlformats.org/officeDocument/2006/relationships/hyperlink" Target="http://www.duhaime.org/diction.htm" TargetMode="External"/><Relationship Id="rId3" Type="http://schemas.openxmlformats.org/officeDocument/2006/relationships/hyperlink" Target="http://www.copyright.cornell.edu/training/Hirtle_Public_Domain.htm" TargetMode="External"/><Relationship Id="rId4" Type="http://schemas.openxmlformats.org/officeDocument/2006/relationships/hyperlink" Target="http://www.utsystem.edu/ogc/intellectualproperty/copypol2.htm#mm&#x0d;" TargetMode="Externa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utsystem.edu/ogc/intellectualproperty/copypol2.htm#course" TargetMode="External"/><Relationship Id="rId2" Type="http://schemas.openxmlformats.org/officeDocument/2006/relationships/hyperlink" Target="http://www.utsystem.edu/OGC/IntellectualProperty/imagguid.htm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371600" y="4419360"/>
            <a:ext cx="640080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9144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opyright Chaos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ubTitle"/>
          </p:nvPr>
        </p:nvSpPr>
        <p:spPr>
          <a:xfrm>
            <a:off x="2666880" y="3429000"/>
            <a:ext cx="60199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 Educator's Guide to Copyright Law and “Fair Use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Presentation created for th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0" lang="en-US" sz="12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Essentials Course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271F0-23AC-4417-8F30-D7F31F809ED7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ttribution and Acknowledgemen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8237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lvl="1" marL="221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redit your sources and display the copyright notic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221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© and copyright ownership informatio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221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221400" indent="-220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rediting the source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514440" indent="-291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ive a full bibliographic description with the information that is available (including author, title, publisher, and place and date of publication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21400" indent="-220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splay copyright notice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514440" indent="-291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nder pictures, add the copyright ownership information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652680" indent="-136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© (the copyright notice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652680" indent="-136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ear of first public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652680" indent="-136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ame of the copyright hold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022760" indent="-368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ample: © 2001 Company/Person’s Nam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E424C-4FC6-4EDA-B6FD-3BA001EEC512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Future Uses Beyond Fair Us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If there is a possibility that a project could result in broader dissemination (for instance, publication on the Internet): obtain permissions when you create it, rather than waiting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228960" indent="-227520">
              <a:spcBef>
                <a:spcPts val="11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ample permission letters are available on the Curriculum Resource C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531360" indent="-301320">
              <a:spcBef>
                <a:spcPts val="10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Resource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folder,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Copyright Resourc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674280" indent="-141480">
              <a:spcBef>
                <a:spcPts val="10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ermission letters to copyright own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674280" indent="-141480">
              <a:spcBef>
                <a:spcPts val="10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ermission letters to parents to publish student wor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674280" indent="-141480">
              <a:spcBef>
                <a:spcPts val="10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n example letter to use in this cours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47C32-AA51-4F35-A2CE-CB46C93B5715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Guidelin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13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Remember... these are guidelines, not law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3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However, the further you venture from these guidelines, the more likely you are to be outside of “fair use.”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64CE2-DBEB-4E13-9D04-5A1F1898EA8A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Software Copyrigh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What about software?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 of software does not fall under fair use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nless you have specific permission from the copyright owner…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t is illegal to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urchase a single user license and load it onto multiple computers or a server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ownload copyrighted software from the Internet or bulletin board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oad the software your school purchased onto your computer at hom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93186-4A32-4189-A8E1-117A0DBA6A98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Resourc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8237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lvl="1" marL="238680" indent="-23724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dditional resources to help you and your students understand and follow copyright law and fair use guidelines are located in the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Resources, Copyright Resource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folder on the Curriculum Resource CD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38680" indent="-23724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air Use Guidelines For Educational Multimedia”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repared by the Educational Multimedia Fair Use Guidelines Development Committee, July 17, 1996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utsystem.edu/ogc/intellectualproperty/ccmcguid.htm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38680" indent="-23724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air Use Of Copyrighted Materials” by Georgia Harper,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2"/>
              </a:rPr>
              <a:t>www.utsystem.edu/OGC/IntellectualProperty/copypol2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38680" indent="-23724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opyright Basics” by the U.S. Copyright Office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3"/>
              </a:rPr>
              <a:t>www.copyright.gov/circs/circ1.html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38680" indent="-23724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e Copyright Website” by Benedict O’Mahoney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4"/>
              </a:rPr>
              <a:t>www.benedict.co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38680" indent="-23724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opyright Law in the Electronic Environment” by Georgia Harper, 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5"/>
              </a:rPr>
              <a:t>www.utsystem.edu/OGC/IntellectualProperty/faculty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6F8C7-EDFC-4B02-9C3D-396B3E242B53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Resourc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10 Big Myths about Copyright Explained” by Brad Templeton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templetons.com/brad/copymyths.htm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uhaime's Legal Dictionary” by Lloyd Duhaime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2"/>
              </a:rPr>
              <a:t>www.duhaime.org/diction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opyright Term and the Public Domain in the United States” by Peter B. Hirtle, Cornell Institute for Digital Collectio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3"/>
              </a:rPr>
              <a:t>www.copyright.cornell.edu/training/Hirtle_Public_Domain.htm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sz="1600" spc="-1" strike="noStrike">
                <a:solidFill>
                  <a:srgbClr val="ffffff"/>
                </a:solidFill>
                <a:latin typeface="Verdana"/>
              </a:rPr>
              <a:t>Rules Of Thumb For Digitizing And Using Others' Works In Multimedia Materials For Educational Purpose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” by Georgia Harper, 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4"/>
              </a:rPr>
              <a:t>www.utsystem.edu/ogc/intellectualproperty/copypol2.htm#m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CB62D-FF1E-4158-8E63-764991863D7E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Resourc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lvl="1" marL="236160" indent="-23472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sz="1600" spc="-1" strike="noStrike">
                <a:solidFill>
                  <a:srgbClr val="ffffff"/>
                </a:solidFill>
                <a:latin typeface="Verdana"/>
              </a:rPr>
              <a:t>Rules Of Thumb For Coursepack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”</a:t>
            </a:r>
            <a:r>
              <a:rPr b="0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by Georgia Harper, 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utsystem.edu/ogc/intellectualproperty/copypol2.htm#cours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36160" indent="-23472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 Proposal For Educational Fair Use Guidelines For Digital Images” by Georgia Harper, 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2"/>
              </a:rPr>
              <a:t>www.utsystem.edu/OGC/IntellectualProperty/imagguid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36160" indent="-23472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List of Links to Other Copyright Sites by Georgia Harper, University of Texas www.utsystem.edu/OGC/IntellectualProperty/offsite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36160" indent="-234720">
              <a:spcBef>
                <a:spcPts val="11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air Use Guidelines for Multimedia” by Intel</a:t>
            </a:r>
            <a:r>
              <a:rPr b="0" lang="en-US" sz="1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Education www.intel.com/education/newtotech/fair_use_multimedia.htm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CEDED-D77E-45CB-A90E-394B1084E3C7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Information on Software Copyrigh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act Sheet on School Software Use”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by Software &amp; Information Industry Association (SIIA)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www.siia.net/piracy/pubs/SchoolSoftwareUse.pdf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igital Anarchy: Part One of an Analysis of Software Piracy”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by David Laprad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www.avault.com/articles/getarticle.asp?name=warez1&amp;page=1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e Federation Against Software Theft (FAST)” (United Kingdom organization) www.fast.org.u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nti-Piracy FAQ” by Software &amp; Information Industry Association (SIIA)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www.siia.net/piracy/faq.asp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ermissible Copying of Software” by Georgia Harper, University of Texas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Verdana"/>
              </a:rPr>
              <a:t>www.utsystem.edu/OGC/IntellectualProperty/mono2.htm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BD4D3-CFF7-4371-B092-91F5E213826A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Use of this Presentation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13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his presentation is copyrighted by Intel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55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It may be used, with copyright notices intact, for not-for-profit, educational purpose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intelEDU_wht_lrg [Converted]"/>
          <p:cNvPicPr/>
          <p:nvPr/>
        </p:nvPicPr>
        <p:blipFill>
          <a:blip r:embed="rId1"/>
          <a:stretch/>
        </p:blipFill>
        <p:spPr>
          <a:xfrm>
            <a:off x="2217600" y="1908000"/>
            <a:ext cx="4953240" cy="2475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457200" y="653904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31652-6BE6-4E2B-A146-6EDF1C5C22A1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opyrigh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What is copyright?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he exclusive right to produce or reproduce (copy), to perform in public, or to publish an original literary or artistic work.”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542880" indent="-307800">
              <a:spcBef>
                <a:spcPts val="64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Duhaime's Law Dictionary 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Almost everything created privately and originally after March 1, 1989 is copyrighted and protected whether it has a notice or not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3E19C-8EC6-4FEB-97B6-C705EC78ADC7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Items Not Copyrighted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lvl="1" marL="233640" indent="-2325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xamples of what are not protected by copyright la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542880" indent="-307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orks that have not been written or record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42880" indent="-307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deas, procedures, methods, discoveries, etc. as distinguished from a description, explanation, or illustr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42880" indent="-307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orks consisting entirely of common information or compilations (for example: standard calendars, tape measures and rulers, telephone book, etc.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42880" indent="-307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tems in the public domain (all works created before 1923 and most between 1923-1963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42880" indent="-307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st U.S. government materials (some items created by contractors for the government might be copyrighted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42880" indent="-307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a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33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5ECF7-ED23-4140-89C9-A51A77B8C71D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Fair Use Claus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air use is a part of the United States Copyright law. It allows people to use and make copies of copyrighted works if they are using them for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riticis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mme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ews report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ach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cholarshi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search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Sec. 107 of the Fair Use Provision of the Copyright Act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7616D-EC02-4EF3-8FB8-BC69E2305F79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Four Factors Help Determine Fair Us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8237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44520" indent="-343080">
              <a:spcBef>
                <a:spcPts val="799"/>
              </a:spcBef>
              <a:buClr>
                <a:srgbClr val="f5e647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5e647"/>
                </a:solidFill>
                <a:latin typeface="Verdana"/>
              </a:rPr>
              <a:t>The purpose and character of the use, including whether such use is of a commercial nature or is for nonprofit educational purpose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You must be using it for educational use, not just using it in a school environmen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-343080">
              <a:spcBef>
                <a:spcPts val="799"/>
              </a:spcBef>
              <a:buClr>
                <a:srgbClr val="f5e647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5e647"/>
                </a:solidFill>
                <a:latin typeface="Verdana"/>
              </a:rPr>
              <a:t>The nature of the copyrighted work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Fair use applies more narrowly to highly creative works—in comparison to those that are mostly fact-based in natur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-343080">
              <a:spcBef>
                <a:spcPts val="799"/>
              </a:spcBef>
              <a:buClr>
                <a:srgbClr val="f5e647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5e647"/>
                </a:solidFill>
                <a:latin typeface="Verdana"/>
              </a:rPr>
              <a:t>The amount and substantiality of the portion used in relation to the copyrighted work as a whol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nsideration of quantity &amp; quality...using only what is </a:t>
            </a:r>
            <a:r>
              <a:rPr b="0" i="1" lang="en-US" sz="1400" spc="-1" strike="noStrike">
                <a:solidFill>
                  <a:srgbClr val="ffffff"/>
                </a:solidFill>
                <a:latin typeface="Verdana"/>
              </a:rPr>
              <a:t>necessary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and not the  “heart” of the work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-343080">
              <a:spcBef>
                <a:spcPts val="799"/>
              </a:spcBef>
              <a:buClr>
                <a:srgbClr val="f5e647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5e647"/>
                </a:solidFill>
                <a:latin typeface="Verdana"/>
              </a:rPr>
              <a:t>The effect of the use upon the potential market for or value of the copyrighted wor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he copying should not harm the market for the original work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pying materials from “consumables,” such as workbooks, weigh heavily against fair use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893B7-2906-4583-97FB-635B2E1215E6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Fair Use Guidelin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13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he </a:t>
            </a:r>
            <a:r>
              <a:rPr b="0" i="1" lang="en-US" sz="2600" spc="-1" strike="noStrike">
                <a:solidFill>
                  <a:srgbClr val="ffffff"/>
                </a:solidFill>
                <a:latin typeface="Verdana"/>
              </a:rPr>
              <a:t>Fair Use Guidelines for Educational Multimedia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was created to provide guidance on what actually falls within fair us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3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However, it i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55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Not a legal documen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55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Only an interpretation of the law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55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Only applies to educators who produce multimedia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EDF28-CAF2-437F-AF61-63ABC6CFF5E6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Guidelines for Student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udents and educators have separate guideline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udents may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corporate portions of lawfully acquired copyrighted works when producing their own educational multimedia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ojects for a specific course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erform and display their own projects in the course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for which they were created; an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etain them in their own portfolio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as examples of their academic work for later personal uses such as job and school interview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AACAA-258C-4E3C-B302-362691C204F8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Educator Guidelin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ducators may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26440" indent="-2250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corporate portions of lawfully acquired copyrighted works when producing educational multimedia projects to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upport their teaching need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26440" indent="-2250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etain their projects indefinitely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for the following purposes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25600" indent="-298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o perform or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isplay in presentations to their peer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, for example, at workshops and conferenc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25600" indent="-298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o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retain in their personal portfolio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for personal uses such as promotion or job interview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26440" indent="-2250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 their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ojects for teaching, for a period of up to two year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after the first instructional use with a clas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25600" indent="-298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structional use beyond that time period requires permission for each copyrighted portion incorporated in the production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935A6-9160-4F84-AA13-9322F39E7378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Guidelines In Order to Stay Within Fair Us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5760" y="1371600"/>
          <a:ext cx="8237520" cy="4343400"/>
        </p:xfrm>
        <a:graphic>
          <a:graphicData uri="http://schemas.openxmlformats.org/drawingml/2006/table">
            <a:tbl>
              <a:tblPr/>
              <a:tblGrid>
                <a:gridCol w="2947680"/>
                <a:gridCol w="5289840"/>
              </a:tblGrid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tion Med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 or 3 minu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 or 1000 word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0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et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50 words; no more than 3 poems by same author; no more than five poems from any single antholog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usic, Lyrics, Vide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 or 30 second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hotos &amp; Illustra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 images from one author; Not more than 10% or 15 images from a single published collected wor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umerical Data Se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 of 2500 fields or cel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Text Box 26"/>
          <p:cNvSpPr/>
          <p:nvPr/>
        </p:nvSpPr>
        <p:spPr>
          <a:xfrm>
            <a:off x="457200" y="9144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f the copyrighted work, use the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mallest amount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of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1T04:12:48Z</dcterms:created>
  <dc:creator>Judi Edman</dc:creator>
  <dc:description/>
  <dc:language>en-US</dc:language>
  <cp:lastModifiedBy>Ben</cp:lastModifiedBy>
  <dcterms:modified xsi:type="dcterms:W3CDTF">2011-01-25T01:30:01Z</dcterms:modified>
  <cp:revision>291</cp:revision>
  <dc:subject/>
  <dc:title>Copyright Chaos</dc:title>
</cp:coreProperties>
</file>